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86A-5F47-4FF1-A671-5D266416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2BE-BB88-4CE1-BFEB-5894B741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86E-9079-456C-8ACB-684CA766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612-30C3-44CE-94CE-8E0A8468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F4A-FB0C-4437-913A-DB6E316E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ADC-2313-4336-B505-8905F5D0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087-2F6B-4C9F-9920-985513E5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662-92BD-4386-AC90-6CE8882D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65B-8398-429B-92BA-3DE6321D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5AD-3893-4386-8EF4-91D4363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5E6-739A-44F6-830C-CD77B87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D17-6483-4810-BCC9-3C962659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5050E-D7E2-4D4B-987B-4886C240C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93F3A-2544-4B5C-9980-24955AC42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200" spc="-1" strike="noStrike">
                <a:solidFill>
                  <a:srgbClr val="dd5807"/>
                </a:solidFill>
                <a:latin typeface="Calibri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61480"/>
            <a:ext cx="822960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PBL Sample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Survey of identification procedures and program offe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Updates for PAIU Gifted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SAS Portal Ad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SAS Learning Commu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Tracking Gifted Student Academic Growth in P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Professional Development Plans and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Rubric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Discussion of Susan Winebrenner arti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fr-CA" sz="2000" spc="-1" strike="noStrike">
                <a:solidFill>
                  <a:srgbClr val="dd5807"/>
                </a:solidFill>
                <a:latin typeface="Calibri"/>
              </a:rPr>
              <a:t>Gifted Students Need an Education, To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World Leadership Forum Nomin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Wiki up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Needs/ Concerns/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56:26Z</dcterms:created>
  <dc:creator>CCIU</dc:creator>
  <dc:description/>
  <dc:language>en-US</dc:language>
  <cp:lastModifiedBy>CCIU</cp:lastModifiedBy>
  <dcterms:modified xsi:type="dcterms:W3CDTF">2010-10-13T15:01:39Z</dcterms:modified>
  <cp:revision>1</cp:revision>
  <dc:subject/>
  <dc:title>Agenda</dc:title>
</cp:coreProperties>
</file>